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AEEDB-7E40-41B7-82B5-DD63AFA80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A9D42-1ED2-4F3D-BD46-2D3A6AC4C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512AD-D93A-424F-A9E5-BC3A41AA4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F7D48-CF88-482B-99D3-B57854C54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748F7-78E3-470D-87FD-8832AAD8E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51567-B720-4EC8-A051-D322839B0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7C5F7-EED1-4549-854E-1A9094A8B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CAF1A-888F-4856-A5CC-72CB25E8B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D7D51-07DC-47B7-AC1B-88221F133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86ABA-151D-446E-8A0E-050B57659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EBBED-25EC-477E-AB5C-B25C77969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6BB6A-46DA-4136-9EE6-D9386CDC4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FC8CE-F248-4185-860C-4E8873F4F2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0512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2162160" y="3105000"/>
            <a:ext cx="4819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esiunea iunie-iuli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920"/>
            <a:ext cx="822960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47" name="Text Box 9"/>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8" name="Picture 12" descr="comp_i"/>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2</a:t>
            </a:r>
            <a:br>
              <a:rPr sz="1000"/>
            </a:b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
        <p:nvSpPr>
          <p:cNvPr id="50"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3s7</cp:lastModifiedBy>
  <dcterms:modified xsi:type="dcterms:W3CDTF">2012-06-18T11:14:35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